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926-2CFA-4775-8A93-F370F69B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4FA-C9F7-4B56-BCFE-B90BEE4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CC2-CD2B-4798-AA86-57CC2FB7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EC-F96A-4997-AC19-6D79B399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B929-752C-4DA2-8D7D-F9155C82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DFA-2613-489D-B072-EADCEAC7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AE6-6FDC-4F1B-A79D-AF04A40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7BAB-3DE7-42A3-8448-D8EC239E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658-5BD3-4070-844F-1BAD5F3D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2F3-E001-4A88-8772-E241945D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BED2-9291-431A-95B0-E23338B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EB6-9F4C-4155-9DE0-C0345C0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8C3F-99DA-4B9F-9E4E-D121BD9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9AAC-F107-4A77-8DC6-0E91935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53E2-FF74-4915-A9E3-F988CC4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CE71-8665-4887-8927-37FB9C79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630A-B4E1-4231-A5CE-B5DF72AB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D1D-943D-4C05-B5E8-BC7D5422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793-65CA-4EE2-9129-6F682B6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145-6988-4B87-B165-38FD823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25F-EB61-43DD-AC18-4231953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87C-124C-4B80-AABC-11789AA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99E-B4F7-4AA5-93AD-DED1973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AB9-E18B-4EFB-90FD-A5660C7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F6E-483A-495F-80D7-0BF9F61373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D11-2C74-4D05-85A4-25D18D2C68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7215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убок России (многоборь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-9.05.2012 г.    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2880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убок России (многоборья)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-9.05.2012 г.                                  г. Адлер с/к «Юность»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00280"/>
          <a:ext cx="7499520" cy="4709880"/>
        </p:xfrm>
        <a:graphic>
          <a:graphicData uri="http://schemas.openxmlformats.org/drawingml/2006/table">
            <a:tbl>
              <a:tblPr/>
              <a:tblGrid>
                <a:gridCol w="3251160"/>
                <a:gridCol w="1832040"/>
                <a:gridCol w="746280"/>
                <a:gridCol w="1670040"/>
              </a:tblGrid>
              <a:tr h="32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.Егиазар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Ив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ор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Войт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Б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ов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5-09T07:55:04Z</cp:lastPrinted>
  <dcterms:modified xsi:type="dcterms:W3CDTF">2012-05-09T08:00:09Z</dcterms:modified>
  <cp:revision>2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